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BFB00-0A38-4F88-993E-9646EA2F0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1DA9-1824-4093-BC4D-52E6C2FEF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C055C-B4A5-4C6E-8749-9C699D8E4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493D6-8A8C-43B5-8AC7-152DC7861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8A57B-23D9-4F21-8611-D91CB4FA5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64CBD-1BEC-45F5-A47E-04C4980E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B78F9-2D89-48D2-85A8-AFC8007A4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98A5E-1FD3-45D4-8D49-A2870F95E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D9CD3-03E9-4CEF-8510-D6FCE1864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F7AAE-3370-4E1E-BAEE-341FD3AFA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1F91-A15B-4768-B9CA-9ED90769E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84364-FF7A-469B-B3F9-8FE1915D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9F4C-9542-4A29-B73D-07CACBE50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88603-FBCD-4151-B2E1-753DFFEC2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B738E-96D5-4D4F-B3C5-FFD007B0A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C8843-3C0F-459D-8245-816FB5B48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F0421-4E70-49D5-9020-71D771CD7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8C3236-CF21-424E-9667-86E0009B5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EA5AB-2C57-4C1E-9944-383157A24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DDB1B-B32F-434D-BE3A-AF68196BC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AAB04-B106-48AC-8F9C-FBD842E7B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C7BD4-BFF0-4DD1-A4B8-A5E2E0100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2A1C-D0D3-4EFB-9CB4-2BEC1487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793FE-0A6E-4F67-ADCC-746188BF7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5BF7D-CC42-4EEC-8414-21292FE53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CF4D1-4E8D-4998-A77E-9CBAAE9B7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D5110-5F4F-46C5-A2DE-1041578E9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3ABDA-1A56-41A1-AF71-23BA3B78D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8A6C78-9D18-46D4-9A5C-A0573394A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A3E3C3-896A-4DCE-8AEE-79A947FC9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91EED6-77B6-4E3C-B569-48A64876E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6FF1D-B3D0-40AF-B326-15784E3EF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25A5D-0968-4798-8FCE-5B3B42229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B8140-6AA9-445E-9360-643CCF8EB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624E1-921D-4179-B12E-B2BF5BCE5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59742-16EA-4085-8C31-DA4FD3C0D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9D25C-5150-459C-815C-8468637F0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3EC07-1B7B-4C68-95A5-89803E464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A8DF9-22CC-4CBC-AE00-3F03A1EA5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5DC20-3FE7-4F6D-B38B-8F5ED6C7A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76C21-DA1C-4F75-8BE6-594763188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0F03A2-7645-4F9C-A1D6-9B94571270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71EE4-DB69-46B9-8669-69BC0E5CB6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DB3667-D4D2-476C-90CE-43175AC9CD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F768-8877-4B7B-AE40-4CBB0351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EE07D-6931-4FD8-8237-1748382DA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9E3E0-D9E6-408C-9825-A125FA220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F42B1-4939-41EE-8819-7B92C1734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E5D7C-AC8E-445D-8690-808819185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3AD14-422C-47DC-91BE-04FD6D48F1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AC330-B313-4A80-A059-EDC70CEFB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EFF19-BA34-4852-9229-0616B296F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57E57-8193-492A-9157-689E771DC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E10E3-3928-4A1D-988D-315DE5147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982204-0862-420C-A499-4F98D21F5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869FD-9D00-45F2-ABA7-335B6492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A72E17-B9E1-430B-B24D-28E45BE18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1E5C3E-1D2E-44B9-B118-1BF79C1408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BE54C-486B-47F0-A8DD-DD97BC35B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C491C-FC60-466D-B960-7973665D5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4A110-EEF4-434B-963B-85E6E11D87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3E58F-01AE-4698-96BF-C753F99A0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2154A-C2C9-428E-8A6A-BE359E552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B44F2-9354-48E0-B73D-799613AFC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EEA62-37C4-46D3-8C31-7F05648B4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AD36E-8519-45A0-8DC7-73C69EF0B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7D90-EC09-45A1-AE65-AFFCE523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4AF0A-22AF-4031-86CC-CED5FD2A9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BBECE2-DDE9-4E6E-A450-88FCD12CE3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1ED277-F881-43AD-B854-D8CAA451BD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33DBF-3B1D-42D8-AFFC-8255E3E30D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FC8D7-4FAA-45B2-81AF-A030E36AE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3B169-32F3-4F04-A480-AC7ECE0F97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D6808-E379-4FF4-BF21-BDF32A678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6686A-0CA1-4B51-9E3D-67F51CEE0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1FC287-2A0D-453D-BC06-AC92A8EC0C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AE3A6-0528-40DE-A3BC-2E78C7762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6DF3-3DD9-4CC0-9E8F-A8A3A8A2B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E94D1-27C7-49E7-A929-CF401FB4FD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C12AF-587D-43B4-8871-A688C6C03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24F2D8-68BB-4333-9432-8041F0961C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94A61E-9F22-46BD-9DBC-EE792DA433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0A7D2D-DAE5-4681-B949-96AB47E34B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CCBFAD-D37D-4869-B670-CDC31219BE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8723C-301F-4469-958E-B3198EB6EA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7E373-1FCB-4D45-845E-4969C9C9E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252F09-456A-4ABA-98ED-DD7102AE23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CEC43-7C8A-4022-9A0C-1175B4FC5E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BD2C-0B04-4814-B5DB-C52ADEDF9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AA176-13D5-4D02-A340-DA5C8869D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32A09-2F98-4D8A-8FA9-0464A17AA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A3D04-87F3-43D8-9027-4E1769D43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724A1-5BC8-4274-B02C-6BA0B11B8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BF9272-B4DC-4CA7-8546-ED8B3FAF6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555AD7-647B-42EF-A859-E6BDD5FBB9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C74D6F-D90F-489B-BC8F-CC5E3654BA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DB3E-ACBB-4507-9371-A31AA3F7DFFC}"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46B0-6B3F-4648-976A-EFD95BDE18FA}"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44A4-6651-4224-AFEB-F1F2093049DC}"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81CB-D729-4DA8-BF9D-7D3DBAFC3184}"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E899-FFFB-44D4-B7DA-9DA04F04471B}"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D9F7-2920-4378-B953-6B38334E2637}"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6CEC-0263-493D-B80D-2F8B2D8EA5EB}"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C8A8-8479-43CA-B1E4-435CF18CB2B5}"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counsnet.com/#sintesis" TargetMode="External"/><Relationship Id="rId2" Type="http://schemas.openxmlformats.org/officeDocument/2006/relationships/hyperlink" Target="http://www.counsnet.com/#comointerpreto" TargetMode="External"/><Relationship Id="rId3" Type="http://schemas.openxmlformats.org/officeDocument/2006/relationships/hyperlink" Target="http://www.counsnet.com/#queesltc" TargetMode="External"/><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1066680" y="4638600"/>
            <a:ext cx="7802640" cy="14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88"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D - DOMINANTES:</a:t>
            </a:r>
            <a:r>
              <a:rPr b="0" lang="es-CL" sz="2800" spc="-1" strike="noStrike">
                <a:solidFill>
                  <a:srgbClr val="464646"/>
                </a:solidFill>
                <a:latin typeface="Lucida Sans Unicode"/>
              </a:rPr>
              <a:t> </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Personas decididas, rápidas, continuamente en pos de resultados concretos. En sus excesos los </a:t>
            </a:r>
            <a:r>
              <a:rPr b="1" lang="es-CL" sz="2800" spc="-1" strike="noStrike">
                <a:solidFill>
                  <a:srgbClr val="464646"/>
                </a:solidFill>
                <a:latin typeface="Lucida Sans Unicode"/>
              </a:rPr>
              <a:t>D</a:t>
            </a:r>
            <a:r>
              <a:rPr b="0" lang="es-CL" sz="2800" spc="-1" strike="noStrike">
                <a:solidFill>
                  <a:srgbClr val="464646"/>
                </a:solidFill>
                <a:latin typeface="Lucida Sans Unicode"/>
              </a:rPr>
              <a:t> pueden mostrarse prepotentes, poco considerados de los sentimientos ajenos y escasamente cuidadosos de los detalles.</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464646"/>
                </a:solidFill>
                <a:latin typeface="Lucida Sans Unicode"/>
              </a:rPr>
              <a:t>I - INFLUYENTES: </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Personas comunicativas, que dan importancia a los sentimientos, de buen humor, inclinadas a establecer amplias relaciones sociales. En sus excesos los </a:t>
            </a:r>
            <a:r>
              <a:rPr b="1" lang="es-CL" sz="2800" spc="-1" strike="noStrike">
                <a:solidFill>
                  <a:srgbClr val="464646"/>
                </a:solidFill>
                <a:latin typeface="Lucida Sans Unicode"/>
              </a:rPr>
              <a:t>I </a:t>
            </a:r>
            <a:r>
              <a:rPr b="0" lang="es-CL" sz="2800" spc="-1" strike="noStrike">
                <a:solidFill>
                  <a:srgbClr val="464646"/>
                </a:solidFill>
                <a:latin typeface="Lucida Sans Unicode"/>
              </a:rPr>
              <a:t>pueden mostrarse verborrágicos, desorganizados e irascible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90"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S - ESTABLES: </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Personas tranquilas, serviciales y solidarias, preocupadas por mantener un entorno seguro, sin cambios abruptos. En sus excesos los </a:t>
            </a:r>
            <a:r>
              <a:rPr b="1" lang="es-CL" sz="2800" spc="-1" strike="noStrike">
                <a:solidFill>
                  <a:srgbClr val="464646"/>
                </a:solidFill>
                <a:latin typeface="Lucida Sans Unicode"/>
              </a:rPr>
              <a:t>S</a:t>
            </a:r>
            <a:r>
              <a:rPr b="0" lang="es-CL" sz="2800" spc="-1" strike="noStrike">
                <a:solidFill>
                  <a:srgbClr val="464646"/>
                </a:solidFill>
                <a:latin typeface="Lucida Sans Unicode"/>
              </a:rPr>
              <a:t> pueden resultar apegados al pasado, dubitativos y temerosos.</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464646"/>
                </a:solidFill>
                <a:latin typeface="Lucida Sans Unicode"/>
              </a:rPr>
              <a:t>C - CONCIENZUDOS: </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Personas racionales, rigurosas, legalistas, interesadas en controlar en detalle la corrección de los procedimientos. En sus excesos los </a:t>
            </a:r>
            <a:r>
              <a:rPr b="1" lang="es-CL" sz="2800" spc="-1" strike="noStrike">
                <a:solidFill>
                  <a:srgbClr val="464646"/>
                </a:solidFill>
                <a:latin typeface="Lucida Sans Unicode"/>
              </a:rPr>
              <a:t>C</a:t>
            </a:r>
            <a:r>
              <a:rPr b="0" lang="es-CL" sz="2800" spc="-1" strike="noStrike">
                <a:solidFill>
                  <a:srgbClr val="464646"/>
                </a:solidFill>
                <a:latin typeface="Lucida Sans Unicode"/>
              </a:rPr>
              <a:t> pueden ser ritualistas, pedantes y quedar paralizados por ansias de perfeccionismo.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92"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464646"/>
                </a:solidFill>
                <a:latin typeface="Lucida Sans Unicode"/>
              </a:rPr>
              <a:t>¿Cómo se leen las barras? </a:t>
            </a:r>
            <a:endParaRPr b="0" lang="en-US" sz="2700" spc="-1" strike="noStrike">
              <a:solidFill>
                <a:srgbClr val="000000"/>
              </a:solidFill>
              <a:latin typeface="Lucida Sans Unicode"/>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Lucida Sans Unicode"/>
              </a:rPr>
              <a:t>Las barras - que reflejan las tendencias- se leen por su altura. Cuanto más altas, más significativas. Las tendencias importantes son aquéllas en que la barra llega por lo menos al cuarto segmento.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94"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Pueden las personas tener más de una tendencia importante? </a:t>
            </a:r>
            <a:endParaRPr b="0" lang="en-US" sz="2800" spc="-1" strike="noStrike">
              <a:solidFill>
                <a:srgbClr val="000000"/>
              </a:solidFill>
              <a:latin typeface="Lucida Sans Unicode"/>
            </a:endParaRPr>
          </a:p>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Sí. Hasta tres.</a:t>
            </a:r>
            <a:r>
              <a:rPr b="0" lang="es-CL" sz="2800" spc="-1" strike="noStrike">
                <a:solidFill>
                  <a:srgbClr val="464646"/>
                </a:solidFill>
                <a:latin typeface="Lucida Sans Unicode"/>
              </a:rPr>
              <a:t> Sin embargo hay algunas combinaciones de tendencias que no son posibles: todas alrededor de la mediana, todas por arriba o todas por abajo. Estas indicarían situaciones especiales que impiden dar un resultado preciso. </a:t>
            </a:r>
            <a:endParaRPr b="0" lang="en-US" sz="2800" spc="-1" strike="noStrike">
              <a:solidFill>
                <a:srgbClr val="000000"/>
              </a:solidFill>
              <a:latin typeface="Lucida Sans Unicode"/>
            </a:endParaRPr>
          </a:p>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Si vuelvo a hacer el </a:t>
            </a:r>
            <a:r>
              <a:rPr b="1" i="1" lang="es-CL" sz="2800" spc="-1" strike="noStrike">
                <a:solidFill>
                  <a:srgbClr val="464646"/>
                </a:solidFill>
                <a:latin typeface="Lucida Sans Unicode"/>
              </a:rPr>
              <a:t>TTCD</a:t>
            </a:r>
            <a:r>
              <a:rPr b="1" lang="es-CL" sz="2800" spc="-1" strike="noStrike">
                <a:solidFill>
                  <a:srgbClr val="464646"/>
                </a:solidFill>
                <a:latin typeface="Lucida Sans Unicode"/>
              </a:rPr>
              <a:t> en un tiempo, obtendré un resultado similar? </a:t>
            </a:r>
            <a:endParaRPr b="0" lang="en-US" sz="2800" spc="-1" strike="noStrike">
              <a:solidFill>
                <a:srgbClr val="000000"/>
              </a:solidFill>
              <a:latin typeface="Lucida Sans Unicode"/>
            </a:endParaRPr>
          </a:p>
          <a:p>
            <a:pPr indent="0" algn="just">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Hay una probabilidad del 90% de que la tendencia más importante no haya sufrido variaciones significativas. Si se produjeron cambios en el ambiente, puede quizá variar alguna tendencia secundaria.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96"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En qué puedo utilizar el </a:t>
            </a:r>
            <a:r>
              <a:rPr b="1" i="1" lang="es-CL" sz="2400" spc="-1" strike="noStrike">
                <a:solidFill>
                  <a:srgbClr val="464646"/>
                </a:solidFill>
                <a:latin typeface="Lucida Sans Unicode"/>
              </a:rPr>
              <a:t>TTCD</a:t>
            </a:r>
            <a:r>
              <a:rPr b="1" lang="es-CL"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El resultado del Test ayuda a conocerse a sí mismo, para detectar cuáles son las preferencias profesionales y laborales (orientación vocacional, profesional y laboral, selección de personal), permitiendo elegir la actividad más adecuada. </a:t>
            </a:r>
            <a:endParaRPr b="0" lang="en-US" sz="24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Este conocimiento es imprescindible para poner a personas a trabajar con otras y, más generalmente, para conformar equipos eficientes. </a:t>
            </a:r>
            <a:endParaRPr b="0" lang="en-US" sz="24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En las Organizaciones muestra el potencial de un individuo para un puesto y sus posibilidades de desarrollo. </a:t>
            </a:r>
            <a:endParaRPr b="0" lang="en-US" sz="24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Finalmente constituye la base de un aprendizaje para conocer y reconocer a los demás, incorporando las técnicas más sutiles para una feliz y productiva convivencia.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523800" y="244440"/>
            <a:ext cx="8375760" cy="596880"/>
          </a:xfrm>
          <a:prstGeom prst="rect">
            <a:avLst/>
          </a:prstGeom>
          <a:ln w="0">
            <a:noFill/>
          </a:ln>
        </p:spPr>
      </p:pic>
      <p:sp>
        <p:nvSpPr>
          <p:cNvPr id="398" name="PlaceHolder 1"/>
          <p:cNvSpPr>
            <a:spLocks noGrp="1"/>
          </p:cNvSpPr>
          <p:nvPr>
            <p:ph type="subTitle"/>
          </p:nvPr>
        </p:nvSpPr>
        <p:spPr>
          <a:xfrm>
            <a:off x="394920" y="1052280"/>
            <a:ext cx="8280360" cy="5329080"/>
          </a:xfrm>
          <a:prstGeom prst="rect">
            <a:avLst/>
          </a:prstGeom>
          <a:noFill/>
          <a:ln w="0">
            <a:noFill/>
          </a:ln>
        </p:spPr>
        <p:txBody>
          <a:bodyPr lIns="45720" rIns="4572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A.- Use los números de la columna </a:t>
            </a:r>
            <a:r>
              <a:rPr b="1" lang="es-MX" sz="2800" spc="-1" strike="noStrike">
                <a:solidFill>
                  <a:srgbClr val="464646"/>
                </a:solidFill>
                <a:latin typeface="Lucida Sans Unicode"/>
              </a:rPr>
              <a:t>MAS</a:t>
            </a:r>
            <a:r>
              <a:rPr b="0" lang="es-MX" sz="2800" spc="-1" strike="noStrike">
                <a:solidFill>
                  <a:srgbClr val="464646"/>
                </a:solidFill>
                <a:latin typeface="Lucida Sans Unicode"/>
              </a:rPr>
              <a:t> de la casilla de </a:t>
            </a:r>
            <a:r>
              <a:rPr b="1" lang="es-MX" sz="2800" spc="-1" strike="noStrike">
                <a:solidFill>
                  <a:srgbClr val="464646"/>
                </a:solidFill>
                <a:latin typeface="Lucida Sans Unicode"/>
              </a:rPr>
              <a:t>Anotaciones</a:t>
            </a:r>
            <a:r>
              <a:rPr b="0" lang="es-MX" sz="2800" spc="-1" strike="noStrike">
                <a:solidFill>
                  <a:srgbClr val="464646"/>
                </a:solidFill>
                <a:latin typeface="Lucida Sans Unicode"/>
              </a:rPr>
              <a:t> para trazar la </a:t>
            </a:r>
            <a:r>
              <a:rPr b="1" lang="es-MX" sz="2800" spc="-1" strike="noStrike">
                <a:solidFill>
                  <a:srgbClr val="464646"/>
                </a:solidFill>
                <a:latin typeface="Lucida Sans Unicode"/>
              </a:rPr>
              <a:t>Gráfica I</a:t>
            </a:r>
            <a:r>
              <a:rPr b="0" lang="es-MX" sz="2800" spc="-1" strike="noStrike">
                <a:solidFill>
                  <a:srgbClr val="464646"/>
                </a:solidFill>
                <a:latin typeface="Lucida Sans Unicode"/>
              </a:rPr>
              <a:t> </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Marque el número de </a:t>
            </a:r>
            <a:r>
              <a:rPr b="1" lang="es-MX" sz="2800" spc="-1" strike="noStrike">
                <a:solidFill>
                  <a:srgbClr val="464646"/>
                </a:solidFill>
                <a:latin typeface="Lucida Sans Unicode"/>
              </a:rPr>
              <a:t>Z</a:t>
            </a:r>
            <a:r>
              <a:rPr b="0" lang="es-MX" sz="2800" spc="-1" strike="noStrike">
                <a:solidFill>
                  <a:srgbClr val="464646"/>
                </a:solidFill>
                <a:latin typeface="Lucida Sans Unicode"/>
              </a:rPr>
              <a:t> en la línea  </a:t>
            </a:r>
            <a:r>
              <a:rPr b="1" lang="es-MX" sz="2800" spc="-1" strike="noStrike">
                <a:solidFill>
                  <a:srgbClr val="464646"/>
                </a:solidFill>
                <a:latin typeface="Lucida Sans Unicode"/>
              </a:rPr>
              <a:t>D    sume el número de Z en las cuatro columnas más.</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464646"/>
                </a:solidFill>
                <a:latin typeface="Lucida Sans Unicode"/>
              </a:rPr>
              <a:t>Escriba este total sobre el símbolo Z de la columna más de la casilla de anotaciones. </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464646"/>
                </a:solidFill>
                <a:latin typeface="Lucida Sans Unicode"/>
              </a:rPr>
              <a:t>Use el mismo procedimiento para contar y registrar los otros símbolos</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Marque el número de  </a:t>
            </a:r>
            <a:r>
              <a:rPr b="1" lang="es-MX" sz="2800" spc="-1" strike="noStrike">
                <a:solidFill>
                  <a:srgbClr val="464646"/>
                </a:solidFill>
                <a:latin typeface="Lucida Sans Unicode"/>
              </a:rPr>
              <a:t>cuadrados</a:t>
            </a:r>
            <a:r>
              <a:rPr b="0" lang="es-MX" sz="2800" spc="-1" strike="noStrike">
                <a:solidFill>
                  <a:srgbClr val="464646"/>
                </a:solidFill>
                <a:latin typeface="Lucida Sans Unicode"/>
              </a:rPr>
              <a:t> en la línea  </a:t>
            </a:r>
            <a:r>
              <a:rPr b="1" lang="es-MX" sz="2800" spc="-1" strike="noStrike">
                <a:solidFill>
                  <a:srgbClr val="464646"/>
                </a:solidFill>
                <a:latin typeface="Lucida Sans Unicode"/>
              </a:rPr>
              <a:t>i</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Marque el número de </a:t>
            </a:r>
            <a:r>
              <a:rPr b="1" lang="es-MX" sz="2800" spc="-1" strike="noStrike">
                <a:solidFill>
                  <a:srgbClr val="464646"/>
                </a:solidFill>
                <a:latin typeface="Lucida Sans Unicode"/>
              </a:rPr>
              <a:t>triángulos</a:t>
            </a:r>
            <a:r>
              <a:rPr b="0" lang="es-MX" sz="2800" spc="-1" strike="noStrike">
                <a:solidFill>
                  <a:srgbClr val="464646"/>
                </a:solidFill>
                <a:latin typeface="Lucida Sans Unicode"/>
              </a:rPr>
              <a:t> ^ en la línea </a:t>
            </a:r>
            <a:r>
              <a:rPr b="1" lang="es-MX" sz="2800" spc="-1" strike="noStrike">
                <a:solidFill>
                  <a:srgbClr val="464646"/>
                </a:solidFill>
                <a:latin typeface="Lucida Sans Unicode"/>
              </a:rPr>
              <a:t>S</a:t>
            </a:r>
            <a:endParaRPr b="0" lang="en-US" sz="28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Marque el número de </a:t>
            </a:r>
            <a:r>
              <a:rPr b="1" lang="es-MX" sz="2800" spc="-1" strike="noStrike">
                <a:solidFill>
                  <a:srgbClr val="464646"/>
                </a:solidFill>
                <a:latin typeface="Lucida Sans Unicode"/>
              </a:rPr>
              <a:t>estrellas</a:t>
            </a:r>
            <a:r>
              <a:rPr b="0" lang="es-ES" sz="2800" spc="-1" strike="noStrike">
                <a:solidFill>
                  <a:srgbClr val="464646"/>
                </a:solidFill>
                <a:latin typeface="Lucida Sans Unicode"/>
              </a:rPr>
              <a:t>*</a:t>
            </a:r>
            <a:r>
              <a:rPr b="1" lang="es-MX" sz="2800" spc="-1" strike="noStrike">
                <a:solidFill>
                  <a:srgbClr val="464646"/>
                </a:solidFill>
                <a:latin typeface="Lucida Sans Unicode"/>
              </a:rPr>
              <a:t> </a:t>
            </a:r>
            <a:r>
              <a:rPr b="0" lang="es-MX" sz="2800" spc="-1" strike="noStrike">
                <a:solidFill>
                  <a:srgbClr val="464646"/>
                </a:solidFill>
                <a:latin typeface="Lucida Sans Unicode"/>
              </a:rPr>
              <a:t>en la línea </a:t>
            </a:r>
            <a:r>
              <a:rPr b="1" lang="es-MX" sz="2800" spc="-1" strike="noStrike">
                <a:solidFill>
                  <a:srgbClr val="464646"/>
                </a:solidFill>
                <a:latin typeface="Lucida Sans Unicode"/>
              </a:rPr>
              <a:t>C</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400"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Si el número específico no aparece en la gráfica tendrá que estimar el punto de trazo. </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No utilizar las “</a:t>
            </a:r>
            <a:r>
              <a:rPr b="1" lang="es-MX" sz="2800" spc="-1" strike="noStrike">
                <a:solidFill>
                  <a:srgbClr val="464646"/>
                </a:solidFill>
                <a:latin typeface="Lucida Sans Unicode"/>
              </a:rPr>
              <a:t>N</a:t>
            </a:r>
            <a:r>
              <a:rPr b="0" lang="es-MX" sz="2800" spc="-1" strike="noStrike">
                <a:solidFill>
                  <a:srgbClr val="464646"/>
                </a:solidFill>
                <a:latin typeface="Lucida Sans Unicode"/>
              </a:rPr>
              <a:t>”</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B.- Use los números de la columna </a:t>
            </a:r>
            <a:r>
              <a:rPr b="1" lang="es-ES" sz="2800" spc="-1" strike="noStrike">
                <a:solidFill>
                  <a:srgbClr val="464646"/>
                </a:solidFill>
                <a:latin typeface="Lucida Sans Unicode"/>
              </a:rPr>
              <a:t>MENOS </a:t>
            </a:r>
            <a:r>
              <a:rPr b="0" lang="es-ES" sz="2800" spc="-1" strike="noStrike">
                <a:solidFill>
                  <a:srgbClr val="464646"/>
                </a:solidFill>
                <a:latin typeface="Lucida Sans Unicode"/>
              </a:rPr>
              <a:t>de la Casilla de Anotaciones para trazar la Gráfica II</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Verifique la exactitud sumando las columnas más y menos de la casilla anotaciones. </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El total de cada columna deberá ser 28. Si no es así. Verifique la casilla anotaciones y las sumas de los símbolos.</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64646"/>
                </a:solidFill>
                <a:latin typeface="Lucida Sans Unicode"/>
              </a:rPr>
              <a:t>Casilla más = 28                      casilla menos = 28</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402"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64646"/>
                </a:solidFill>
                <a:latin typeface="Lucida Sans Unicode"/>
              </a:rPr>
              <a:t>C.- Use los números de la columna DIFERENCIA </a:t>
            </a:r>
            <a:r>
              <a:rPr b="0" lang="es-MX" sz="2400" spc="-1" strike="noStrike">
                <a:solidFill>
                  <a:srgbClr val="464646"/>
                </a:solidFill>
                <a:latin typeface="Lucida Sans Unicode"/>
              </a:rPr>
              <a:t>de la Casilla de Anotaciones para trazar la </a:t>
            </a:r>
            <a:r>
              <a:rPr b="1" lang="es-MX" sz="2400" spc="-1" strike="noStrike">
                <a:solidFill>
                  <a:srgbClr val="464646"/>
                </a:solidFill>
                <a:latin typeface="Lucida Sans Unicode"/>
              </a:rPr>
              <a:t>Gráfica III</a:t>
            </a:r>
            <a:r>
              <a:rPr b="0" lang="es-MX"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64646"/>
                </a:solidFill>
                <a:latin typeface="Lucida Sans Unicode"/>
              </a:rPr>
              <a:t>GRAFICA I  -   GRAFICA II  =  GRAFICA III</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64646"/>
                </a:solidFill>
                <a:latin typeface="Lucida Sans Unicode"/>
              </a:rPr>
              <a:t>Observe los signos + y -  en la </a:t>
            </a:r>
            <a:r>
              <a:rPr b="1" lang="es-MX" sz="2400" spc="-1" strike="noStrike">
                <a:solidFill>
                  <a:srgbClr val="464646"/>
                </a:solidFill>
                <a:latin typeface="Lucida Sans Unicode"/>
              </a:rPr>
              <a:t>Gráfica III</a:t>
            </a:r>
            <a:r>
              <a:rPr b="0" lang="es-MX" sz="2400" spc="-1" strike="noStrike">
                <a:solidFill>
                  <a:srgbClr val="464646"/>
                </a:solidFill>
                <a:latin typeface="Lucida Sans Unicode"/>
              </a:rPr>
              <a:t>    </a:t>
            </a:r>
            <a:r>
              <a:rPr b="1" lang="es-MX"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Las gráficas del sistema de perfil personal se dividen en siete segmentos.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Los números de los segmentos se localizan en la columna correspondiente, los números resultantes se escriben en las casillas inferiores de la gráfica.</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Luego el número resultantes del segmento se busca en la tabla del patrón de perfil clásico.</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404"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64646"/>
                </a:solidFill>
                <a:latin typeface="Lucida Sans Unicode"/>
              </a:rPr>
              <a:t>Interpretación </a:t>
            </a:r>
            <a:endParaRPr b="0" lang="en-US" sz="2800" spc="-1" strike="noStrike">
              <a:solidFill>
                <a:srgbClr val="000000"/>
              </a:solidFill>
              <a:latin typeface="Lucida Sans Unicode"/>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	</a:t>
            </a:r>
            <a:r>
              <a:rPr b="0" lang="es-ES" sz="2800" spc="-1" strike="noStrike">
                <a:solidFill>
                  <a:srgbClr val="464646"/>
                </a:solidFill>
                <a:latin typeface="Lucida Sans Unicode"/>
              </a:rPr>
              <a:t>Encierre en un círculo el punto más elevado en la gráfica III.</a:t>
            </a:r>
            <a:endParaRPr b="0" lang="en-US" sz="2800" spc="-1" strike="noStrike">
              <a:solidFill>
                <a:srgbClr val="000000"/>
              </a:solidFill>
              <a:latin typeface="Lucida Sans Unicode"/>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      </a:t>
            </a:r>
            <a:r>
              <a:rPr b="0" lang="es-ES" sz="2800" spc="-1" strike="noStrike">
                <a:solidFill>
                  <a:srgbClr val="464646"/>
                </a:solidFill>
                <a:latin typeface="Lucida Sans Unicode"/>
              </a:rPr>
              <a:t>Sí dos puntos tienen la misma altura, encierre los dos.</a:t>
            </a:r>
            <a:endParaRPr b="0" lang="en-US" sz="2800" spc="-1" strike="noStrike">
              <a:solidFill>
                <a:srgbClr val="000000"/>
              </a:solidFill>
              <a:latin typeface="Lucida Sans Unicode"/>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	</a:t>
            </a:r>
            <a:r>
              <a:rPr b="0" lang="es-ES" sz="2800" spc="-1" strike="noStrike">
                <a:solidFill>
                  <a:srgbClr val="464646"/>
                </a:solidFill>
                <a:latin typeface="Lucida Sans Unicode"/>
              </a:rPr>
              <a:t>Identifique la tendencia de comportamiento de cada punto que encerró con  un circulo. </a:t>
            </a:r>
            <a:endParaRPr b="0" lang="en-US" sz="2800" spc="-1" strike="noStrike">
              <a:solidFill>
                <a:srgbClr val="000000"/>
              </a:solidFill>
              <a:latin typeface="Lucida Sans Unicode"/>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	</a:t>
            </a:r>
            <a:r>
              <a:rPr b="0" lang="es-ES" sz="2800" spc="-1" strike="noStrike">
                <a:solidFill>
                  <a:srgbClr val="464646"/>
                </a:solidFill>
                <a:latin typeface="Lucida Sans Unicode"/>
              </a:rPr>
              <a:t>En la parte superior de la gráfica verá los nombres de cada escala que son  D, I, S, C.</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457200" y="12600"/>
            <a:ext cx="8004240" cy="762120"/>
          </a:xfrm>
          <a:prstGeom prst="rect">
            <a:avLst/>
          </a:prstGeom>
          <a:ln w="0">
            <a:noFill/>
          </a:ln>
        </p:spPr>
      </p:pic>
      <p:sp>
        <p:nvSpPr>
          <p:cNvPr id="406" name="PlaceHolder 1"/>
          <p:cNvSpPr>
            <a:spLocks noGrp="1"/>
          </p:cNvSpPr>
          <p:nvPr>
            <p:ph type="subTitle"/>
          </p:nvPr>
        </p:nvSpPr>
        <p:spPr>
          <a:xfrm>
            <a:off x="394920" y="836280"/>
            <a:ext cx="8280360" cy="554508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activo, diligente; muestra frustración </a:t>
            </a:r>
            <a:r>
              <a:rPr b="0" lang="es-ES" sz="2400" spc="-1" strike="noStrike">
                <a:solidFill>
                  <a:srgbClr val="464646"/>
                </a:solidFill>
                <a:latin typeface="Lucida Sans Unicode"/>
              </a:rPr>
              <a:t>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logros personales, en ocasiones a expensas de la meta del grup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el logro de resultados concreto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la aceptación de responsabilidad de su propio trabaj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se propone y consigue resultados en áreas claves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confianza en sí mismo: absorción en el trabaj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frustra e impacienta con los demás; se convierte en una persona que “lo hace todo” en vez de ser alguien que “deleg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a quienes tienen niveles inferiores o competitivos de trabajo, que afectan los resultado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676440" y="255600"/>
            <a:ext cx="8046720" cy="1481040"/>
          </a:xfrm>
          <a:prstGeom prst="rect">
            <a:avLst/>
          </a:prstGeom>
          <a:ln w="0">
            <a:noFill/>
          </a:ln>
        </p:spPr>
      </p:pic>
      <p:sp>
        <p:nvSpPr>
          <p:cNvPr id="372" name="PlaceHolder 1"/>
          <p:cNvSpPr>
            <a:spLocks noGrp="1"/>
          </p:cNvSpPr>
          <p:nvPr>
            <p:ph type="subTitle"/>
          </p:nvPr>
        </p:nvSpPr>
        <p:spPr>
          <a:xfrm>
            <a:off x="394920" y="1916280"/>
            <a:ext cx="8280360" cy="4465440"/>
          </a:xfrm>
          <a:prstGeom prst="rect">
            <a:avLst/>
          </a:prstGeom>
          <a:noFill/>
          <a:ln w="0">
            <a:noFill/>
          </a:ln>
        </p:spPr>
        <p:txBody>
          <a:bodyPr lIns="45720" rIns="4572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El Sistema de Perfil Personal presenta un plan para ayudarle a conocerse a y a conocer a los demás en su ambiente de trabajo. </a:t>
            </a: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Es útil para reconocer las diferencias entre la personas así como el ambiente necesario para lograr una máxima productividad y armonía en la organizació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2" descr=""/>
          <p:cNvPicPr/>
          <p:nvPr/>
        </p:nvPicPr>
        <p:blipFill>
          <a:blip r:embed="rId1"/>
          <a:stretch/>
        </p:blipFill>
        <p:spPr>
          <a:xfrm>
            <a:off x="554040" y="255600"/>
            <a:ext cx="7907400" cy="585720"/>
          </a:xfrm>
          <a:prstGeom prst="rect">
            <a:avLst/>
          </a:prstGeom>
          <a:ln w="0">
            <a:noFill/>
          </a:ln>
        </p:spPr>
      </p:pic>
      <p:sp>
        <p:nvSpPr>
          <p:cNvPr id="408"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acepta el afecto; rechaza la agresión</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ser aceptado por los demás</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la tolerancia y participación</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la comprensión, amistad</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apoya, armoniza, proyecta empatía, esta orientado al servicio</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la amabilidad</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vuelve persuasivo haciendo, si fuese necesario, uso de información que posee o de amistades clave</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el desacuerdo, el conflicto</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tuviera más conciencia de quién es y de lo que puede hacer; mostrara más firmeza y agresividad, dijera “no” en los momentos adecuado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384120" y="12600"/>
            <a:ext cx="8077320" cy="762120"/>
          </a:xfrm>
          <a:prstGeom prst="rect">
            <a:avLst/>
          </a:prstGeom>
          <a:ln w="0">
            <a:noFill/>
          </a:ln>
        </p:spPr>
      </p:pic>
      <p:sp>
        <p:nvSpPr>
          <p:cNvPr id="410" name="PlaceHolder 1"/>
          <p:cNvSpPr>
            <a:spLocks noGrp="1"/>
          </p:cNvSpPr>
          <p:nvPr>
            <p:ph type="subTitle"/>
          </p:nvPr>
        </p:nvSpPr>
        <p:spPr>
          <a:xfrm>
            <a:off x="394920" y="836280"/>
            <a:ext cx="8280360" cy="554508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un fuerte impulso por causar buena impresión</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ganar” con estil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 capacidad de tomar iniciativ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al: hacerles competir por su reconocimient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obtiene sus metas a través de los demá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su autoridad e ingeni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torna intranquilo, crítico, impaciente</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perder”; quedar mal ante los demá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llevara a cabo el seguimiento hasta el final; mostrara empatía al estar en desacuerdo; se marcara un ritmo más realista para sus actividade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244440" y="12600"/>
            <a:ext cx="8582040" cy="762120"/>
          </a:xfrm>
          <a:prstGeom prst="rect">
            <a:avLst/>
          </a:prstGeom>
          <a:ln w="0">
            <a:noFill/>
          </a:ln>
        </p:spPr>
      </p:pic>
      <p:sp>
        <p:nvSpPr>
          <p:cNvPr id="412"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Antes de seguir adelante revise la gráfica de su perfil en busca de errores que pueda haber cometido al sumar sus respuestas o trazar sus puntos. </a:t>
            </a:r>
            <a:endParaRPr b="0" lang="en-US" sz="28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El Patrón de Superactivo aparece cuando los cuatro puntos se encuentran en la parte superior de la gráfica. Esto indica que la persona le ha dado a los cuatro estilos de conducta la misma importancia. </a:t>
            </a:r>
            <a:endParaRPr b="0" lang="en-US" sz="28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4646"/>
                </a:solidFill>
                <a:latin typeface="Lucida Sans Unicode"/>
              </a:rPr>
              <a:t>Como resultado la configuración del perfil no concuerda con ninguno de los Patrones Clásicos que comúnmente aparecen.</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171360" y="85680"/>
            <a:ext cx="8655120" cy="762120"/>
          </a:xfrm>
          <a:prstGeom prst="rect">
            <a:avLst/>
          </a:prstGeom>
          <a:ln w="0">
            <a:noFill/>
          </a:ln>
        </p:spPr>
      </p:pic>
      <p:sp>
        <p:nvSpPr>
          <p:cNvPr id="414"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competente para hacer bien las cosas, reservado, cautelos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logros estable, predecible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normas precisas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la atención al detalle y precisión</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concienzudo, conserva las normas; control de calidad</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los procedimientos y controles excesivos para evitar las fallas, depende demasiado de la gente, productos y procesos que le funcionaron en el pasad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es discreto, diplomátic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el antagonism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fuera más flexible en su papel, fuera más independiente e interdependiente; tuviera más fe en sí mismo y si se viera a sí mismo como una persona valiosa.</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171360" y="85680"/>
            <a:ext cx="8655120" cy="762120"/>
          </a:xfrm>
          <a:prstGeom prst="rect">
            <a:avLst/>
          </a:prstGeom>
          <a:ln w="0">
            <a:noFill/>
          </a:ln>
        </p:spPr>
      </p:pic>
      <p:sp>
        <p:nvSpPr>
          <p:cNvPr id="416"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confía en los demás, es entusiasta </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autoridad y prestigio diversos símbolos de prestigio</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 capacidad de expresión verbal, su flexibilidad </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un comportamiento amistoso, franqueza; habilidad en su expresión verbal</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sabe vender y cerrar tratos; delega responsabilidades, sereno, seguridad en sí mismo</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su entusiasmo, su habilidad para vender, su optimismo</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es discreto, diplomático  </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un ambiente inalterable, relaciones complejas</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se le asignaran tareas que le impliquen un reto, prestará más atención al servicio y detalles elementales clave para el trabajo; hiciera un análisis objetivo de la informació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268200" y="255600"/>
            <a:ext cx="8558280" cy="585720"/>
          </a:xfrm>
          <a:prstGeom prst="rect">
            <a:avLst/>
          </a:prstGeom>
          <a:ln w="0">
            <a:noFill/>
          </a:ln>
        </p:spPr>
      </p:pic>
      <p:sp>
        <p:nvSpPr>
          <p:cNvPr id="418"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Emociones: quiere mantenerse a la altura de los demás en cuanto a esfuerzo y desempeño técnico  </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Meta: profundo afán por el desarrollo personal</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Juzga a los demás por: su autodisciplina</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Influye en los demás mediante: la confianza en su habilidad para perfeccionar nuevos conocimientos al desarrollar y seguir procedimientos y acciones “correctas”</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Su valor para la organización: hábil para resolver problemas técnicos y humanos; profesionalismo en su especialidad</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Abusa de : una atención excesiva a objetivos personales: expectativas poco realistas sobre los demás</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Bajo presión: se cohíbe, sensible a la crítica</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Teme: ser demasiado predecible, que no se le reconozca como “experto”</a:t>
            </a:r>
            <a:endParaRPr b="0" lang="en-US" sz="22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64646"/>
                </a:solidFill>
                <a:latin typeface="Lucida Sans Unicode"/>
              </a:rPr>
              <a:t>Sería más eficaz sí: colaborara en forma genuina para beneficio general ; delegara tareas importantes a las personas apropiadas</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171360" y="85680"/>
            <a:ext cx="8655120" cy="762120"/>
          </a:xfrm>
          <a:prstGeom prst="rect">
            <a:avLst/>
          </a:prstGeom>
          <a:ln w="0">
            <a:noFill/>
          </a:ln>
        </p:spPr>
      </p:pic>
      <p:sp>
        <p:nvSpPr>
          <p:cNvPr id="420"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dispuesto a aceptar a los demá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aprobación, popularidad</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 forma de expresarse</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alabanzas, oportunidades, haciendo favores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alivia tensiones; promueve proyectos y persona; incluso a sí mism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 los elogios, optimism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descuidado y sentimental, actúa en forma desorganizada; no sabe cómo llevar a cabo las cosa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perder la aceptación social y su autoestim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i: tuviera más control del tiempo, fuera más objetivo; fuera más sensible a lo que significa “Urgente”, controlara sus emociones, cumpliera hasta el final sus promesas, tarea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237960" y="244440"/>
            <a:ext cx="8588520" cy="596880"/>
          </a:xfrm>
          <a:prstGeom prst="rect">
            <a:avLst/>
          </a:prstGeom>
          <a:ln w="0">
            <a:noFill/>
          </a:ln>
        </p:spPr>
      </p:pic>
      <p:sp>
        <p:nvSpPr>
          <p:cNvPr id="422"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Emociones: una gran expresión verbal de la fuerza del ego, muestra un fuerte individualismo</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Meta: dominio e independencia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Juzga a los demás por: su capacidad para realizar las tareas con rapidez </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Influye en los demás mediante: su fuerza de carácter; su persistencia</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Su valor para la organización : sus acciones y actitud de “yo les muestro cómo”</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Abusa de: la impaciencia, sentido competitivo de “ganar o perder”</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Bajo presión: se vuelve criticón y de dedica a encontrar errores; se niega a trabajar en equipo; se excede en sus prerrogativas</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Teme: que otros se aprovechen de él; la lentitud, en especial en las actividades del trabajo; ser demasiado “blando” o “intimo” con los demás</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Sería más eficaz sí: verbalizara su proceso de razonamiento; buscara otros puntos de vista e ideas sobre sus objetivos al resolver problemas; su preocupación por los demás fuera más genuina; fuera más paciente y humilde.</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171360" y="85680"/>
            <a:ext cx="8655120" cy="762120"/>
          </a:xfrm>
          <a:prstGeom prst="rect">
            <a:avLst/>
          </a:prstGeom>
          <a:ln w="0">
            <a:noFill/>
          </a:ln>
        </p:spPr>
      </p:pic>
      <p:sp>
        <p:nvSpPr>
          <p:cNvPr id="424"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es fácil de abordar; afectuoso y comprensivo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la amistad; la felicidad</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 aceptación positiva; generalmente busca el lado bueno de las persona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las relaciones personales; al practicar la política de “puertas abierta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estable, predecible; una amplia esfera de amistades, sabe escuchar</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acercamiento indirecto, toleranci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torna demasiado flexible e íntimo, confía demasiado en todos sin distinción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presionar a los demás, que se le acuse de hacer dañ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prestara más atención a las fechas limite; tuviera más iniciativa para realizar el trabajo</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2" descr=""/>
          <p:cNvPicPr/>
          <p:nvPr/>
        </p:nvPicPr>
        <p:blipFill>
          <a:blip r:embed="rId1"/>
          <a:stretch/>
        </p:blipFill>
        <p:spPr>
          <a:xfrm>
            <a:off x="171360" y="85680"/>
            <a:ext cx="8655120" cy="762120"/>
          </a:xfrm>
          <a:prstGeom prst="rect">
            <a:avLst/>
          </a:prstGeom>
          <a:ln w="0">
            <a:noFill/>
          </a:ln>
        </p:spPr>
      </p:pic>
      <p:sp>
        <p:nvSpPr>
          <p:cNvPr id="426" name="PlaceHolder 1"/>
          <p:cNvSpPr>
            <a:spLocks noGrp="1"/>
          </p:cNvSpPr>
          <p:nvPr>
            <p:ph type="subTitle"/>
          </p:nvPr>
        </p:nvSpPr>
        <p:spPr>
          <a:xfrm>
            <a:off x="395280" y="836640"/>
            <a:ext cx="8353440" cy="6021360"/>
          </a:xfrm>
          <a:prstGeom prst="rect">
            <a:avLst/>
          </a:prstGeom>
          <a:noFill/>
          <a:ln w="0">
            <a:noFill/>
          </a:ln>
        </p:spPr>
        <p:txBody>
          <a:bodyPr lIns="45720" rIns="45720" tIns="46800" bIns="46800" anchor="t">
            <a:noAutofit/>
          </a:bodyPr>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acepta la agresión; puede contenerse al expresarse</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dominar; logros únicos</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s propias normas; las ideas progresivas al llevar a cabo el trabajo</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el establecimiento de un ritmo a seguir para desarrollar sistemas y enfoques innovadores </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el iniciar o diseñar cambios</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la brusquedad, la actitud crítica o condescendiente</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aburre fácilmente con el trabajo rutinario, cuando se le restringe se torna malhumorado, es independiente </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no poder influir; no alcanzar el nivel establecido</a:t>
            </a:r>
            <a:endParaRPr b="0" lang="en-US" sz="2400" spc="-1" strike="noStrike">
              <a:solidFill>
                <a:srgbClr val="000000"/>
              </a:solidFill>
              <a:latin typeface="Lucida Sans Unicode"/>
            </a:endParaRPr>
          </a:p>
          <a:p>
            <a:pPr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fuera más amable, usara más tacto al comunicarse, cooperara más con el equipo y reconociera que existen sancione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800" spc="-1" strike="noStrike">
              <a:solidFill>
                <a:srgbClr val="464646"/>
              </a:solidFill>
              <a:latin typeface="Lucida Sans Unicode"/>
            </a:endParaRPr>
          </a:p>
        </p:txBody>
      </p:sp>
      <p:sp>
        <p:nvSpPr>
          <p:cNvPr id="374" name="PlaceHolder 2"/>
          <p:cNvSpPr>
            <a:spLocks noGrp="1"/>
          </p:cNvSpPr>
          <p:nvPr>
            <p:ph type="subTitle"/>
          </p:nvPr>
        </p:nvSpPr>
        <p:spPr>
          <a:xfrm>
            <a:off x="394920" y="1916280"/>
            <a:ext cx="8280360" cy="4465440"/>
          </a:xfrm>
          <a:prstGeom prst="rect">
            <a:avLst/>
          </a:prstGeom>
          <a:noFill/>
          <a:ln w="0">
            <a:noFill/>
          </a:ln>
        </p:spPr>
        <p:txBody>
          <a:bodyPr lIns="45720" rIns="4572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Los resultados obtenidos de las investigaciones apoyan la conclusión de que las personas más eficaces son las que se conocen, conocen las exigencias de la situación y adaptan estrategias para satisfacer estas necesidad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39680" y="6480"/>
            <a:ext cx="8686800" cy="841320"/>
          </a:xfrm>
          <a:prstGeom prst="rect">
            <a:avLst/>
          </a:prstGeom>
          <a:ln w="0">
            <a:noFill/>
          </a:ln>
        </p:spPr>
      </p:pic>
      <p:sp>
        <p:nvSpPr>
          <p:cNvPr id="428"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Emociones: individualista en lo que se refiere a sus necesidades personales</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Meta: una nueva oportunidad, un nuevo reto</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Juzga a los demás por: su capacidad para alcanzar las normas establecidas por el Resolutivo</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Influye en los demás mediante: las soluciones a los problemas, al proyectar una imagen de poder</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Su valor para la organización: acepta la responsabilidad (no dice “no es mi culpa”); al ofrecer formas nuevas o innovadores de resolver problemas</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Abusa: del control que ejerce sobre los demás en su afán de alcanzar sus propios resultados</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Bajo presión: se aparta cuando se tienen que hacer las cosas; se torna beligerante cuando ve su individualidad amenazada o se le cierran las puertas al reto</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Teme: el aburrimiento, la pérdida de control</a:t>
            </a:r>
            <a:endParaRPr b="0" lang="en-US" sz="20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4646"/>
                </a:solidFill>
                <a:latin typeface="Lucida Sans Unicode"/>
              </a:rPr>
              <a:t>Sería más eficaz sí: mostrara más paciencia, empatía; participara y colaborara con los demás; diera más seguimiento y atención a la importancia del control de calidad.</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39680" y="6480"/>
            <a:ext cx="8686800" cy="841320"/>
          </a:xfrm>
          <a:prstGeom prst="rect">
            <a:avLst/>
          </a:prstGeom>
          <a:ln w="0">
            <a:noFill/>
          </a:ln>
        </p:spPr>
      </p:pic>
      <p:sp>
        <p:nvSpPr>
          <p:cNvPr id="430"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acepta la agresión, tiende a aparentar dar poco importancia a la necesidad que tiene de afect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controlar su ambiente o a su public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 la forma en que proyectan su fuerza personal, carácter y posición social</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su encanto, dirección, intimidación. Uso de recompensa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mueve a la gente inicia, ordena, felicita, disciplin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su enfoque de que “el fin justifica los medio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vuelve manipulador; pendenciero; beligerante</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ser demasiado blando, perder su posición social</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fuera más genuina su sensibilidad, estuviera más dispuesto a ayudar a tener éxito en su propio desarrollo personal.</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139680" y="6480"/>
            <a:ext cx="8686800" cy="841320"/>
          </a:xfrm>
          <a:prstGeom prst="rect">
            <a:avLst/>
          </a:prstGeom>
          <a:ln w="0">
            <a:noFill/>
          </a:ln>
        </p:spPr>
      </p:pic>
      <p:sp>
        <p:nvSpPr>
          <p:cNvPr id="432"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desapasionado; autodisciplinado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el poder que generan la autoridad, la posición y los roles formales   </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el uso de la información objetiva</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su determinación, su tenacidad</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seguimiento concienzudo para realizar su trabajo en forma constante y persistente sea individual o en grupos pequeño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la franqueza; su desconfianza hacia los demá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tiende a interiorizar los conflictos, recuerda el mal que se ha hecho</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involucrarse con las masas, vender ideas abstractas</a:t>
            </a:r>
            <a:endParaRPr b="0" lang="en-US" sz="2400" spc="-1" strike="noStrike">
              <a:solidFill>
                <a:srgbClr val="000000"/>
              </a:solidFill>
              <a:latin typeface="Lucida Sans Unicode"/>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fuera más flexible; aceptar a los demás; si participara más con los demá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171360" y="85680"/>
            <a:ext cx="8655120" cy="762120"/>
          </a:xfrm>
          <a:prstGeom prst="rect">
            <a:avLst/>
          </a:prstGeom>
          <a:ln w="0">
            <a:noFill/>
          </a:ln>
        </p:spPr>
      </p:pic>
      <p:sp>
        <p:nvSpPr>
          <p:cNvPr id="434" name="PlaceHolder 1"/>
          <p:cNvSpPr>
            <a:spLocks noGrp="1"/>
          </p:cNvSpPr>
          <p:nvPr>
            <p:ph type="subTitle"/>
          </p:nvPr>
        </p:nvSpPr>
        <p:spPr>
          <a:xfrm>
            <a:off x="394920" y="907560"/>
            <a:ext cx="8280360" cy="5473800"/>
          </a:xfrm>
          <a:prstGeom prst="rect">
            <a:avLst/>
          </a:prstGeom>
          <a:noFill/>
          <a:ln w="0">
            <a:noFill/>
          </a:ln>
        </p:spPr>
        <p:txBody>
          <a:bodyPr lIns="45720" rIns="4572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Emociones: suele rechazar la agresión interpersonal</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Meta: la exactitud</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Juzga a los demás por: su capacidad de pensamiento analítico </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Influye en los demás mediante: la información objetiva, los argumentos lógicos</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u valor para la organización: define, esclarece; obtiene información; evalúa; comprueba</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Abusa de: el análisis</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Bajo presión: se vuelve aprensivo  </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Teme: actos irracionales, el ridículo</a:t>
            </a:r>
            <a:endParaRPr b="0" lang="en-US" sz="2400" spc="-1" strike="noStrike">
              <a:solidFill>
                <a:srgbClr val="000000"/>
              </a:solidFill>
              <a:latin typeface="Lucida Sans Unicode"/>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4646"/>
                </a:solidFill>
                <a:latin typeface="Lucida Sans Unicode"/>
              </a:rPr>
              <a:t>Sería más eficaz sí: fuera más abierto, compartiera en público su perspicacia y opiniones.</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76"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El Sistema de Perfil Personal le permitirá:</a:t>
            </a:r>
            <a:endParaRPr b="0" lang="en-US" sz="2700" spc="-1" strike="noStrike">
              <a:solidFill>
                <a:srgbClr val="000000"/>
              </a:solidFill>
              <a:latin typeface="Lucida Sans Unicode"/>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Identificar la forma de comportamiento en el trabajo.</a:t>
            </a:r>
            <a:endParaRPr b="0" lang="en-US" sz="2700" spc="-1" strike="noStrike">
              <a:solidFill>
                <a:srgbClr val="000000"/>
              </a:solidFill>
              <a:latin typeface="Lucida Sans Unicode"/>
            </a:endParaRPr>
          </a:p>
          <a:p>
            <a:pPr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Crear las motivaciones más favorables para lograr el éxito.</a:t>
            </a:r>
            <a:endParaRPr b="0" lang="en-US" sz="2700" spc="-1" strike="noStrike">
              <a:solidFill>
                <a:srgbClr val="000000"/>
              </a:solidFill>
              <a:latin typeface="Lucida Sans Unicode"/>
            </a:endParaRPr>
          </a:p>
          <a:p>
            <a:pPr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Reconocer mejor las diferentes maneras de desempeñar el trabajo.</a:t>
            </a:r>
            <a:endParaRPr b="0" lang="en-US" sz="2700" spc="-1" strike="noStrike">
              <a:solidFill>
                <a:srgbClr val="000000"/>
              </a:solidFill>
              <a:latin typeface="Lucida Sans Unicode"/>
            </a:endParaRPr>
          </a:p>
          <a:p>
            <a:pPr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464646"/>
                </a:solidFill>
                <a:latin typeface="Lucida Sans Unicode"/>
              </a:rPr>
              <a:t>Identificar y reducir los conflictos potenciales con los demá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78"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Qué resultado se obtiene de este TES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El resultado se divide en tres partes:</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464646"/>
                </a:solidFill>
                <a:latin typeface="Lucida Sans Unicode"/>
              </a:rPr>
              <a:t>I   </a:t>
            </a:r>
            <a:r>
              <a:rPr b="0" lang="es-CL" sz="2400" spc="-1" strike="noStrike" u="sng">
                <a:solidFill>
                  <a:srgbClr val="ff8119"/>
                </a:solidFill>
                <a:uFillTx/>
                <a:latin typeface="Lucida Sans Unicode"/>
                <a:hlinkClick r:id="rId1"/>
              </a:rPr>
              <a:t>Síntesis Descriptiva.</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II  Gráficos</a:t>
            </a:r>
            <a:r>
              <a:rPr b="0" lang="es-CL" sz="2400" spc="-1" strike="noStrike" u="sng">
                <a:solidFill>
                  <a:srgbClr val="ff8119"/>
                </a:solidFill>
                <a:uFillTx/>
                <a:latin typeface="Lucida Sans Unicode"/>
                <a:hlinkClick r:id="rId2"/>
              </a:rPr>
              <a:t>.</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III  </a:t>
            </a:r>
            <a:r>
              <a:rPr b="0" lang="es-CL" sz="2400" spc="-1" strike="noStrike" u="sng">
                <a:solidFill>
                  <a:srgbClr val="ff8119"/>
                </a:solidFill>
                <a:uFillTx/>
                <a:latin typeface="Lucida Sans Unicode"/>
                <a:hlinkClick r:id="rId3"/>
              </a:rPr>
              <a:t>Listado de tendencias/competencias conductuales.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Qué contiene la Síntesis Descriptiva?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La SD describe los puntos fuertes, las características generales (psicosociales), los comportamientos en el seno de las Organizaciones, los puntos débiles y las reacciones en situaciones de conflicto del sujeto testeado.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80"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Cómo interpreto los Gráficos?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Hay tres Gráficos.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I  El Gráfico del Perfil Emocional (PE</a:t>
            </a:r>
            <a:r>
              <a:rPr b="0" lang="es-CL"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refleja las conductas inconcientes, involuntarias y automatizadas a lo largo del tiempo, que constituyen la base de las reacciones que tenemos a diario sin darnos cuenta o siguiendo impulsos instantáneos.</a:t>
            </a:r>
            <a:br>
              <a:rPr sz="2400"/>
            </a:br>
            <a:r>
              <a:rPr b="0" lang="es-CL"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II El Gráfico del Perfil Adaptativo (PA)</a:t>
            </a:r>
            <a:r>
              <a:rPr b="0" lang="es-CL" sz="2400" spc="-1" strike="noStrike">
                <a:solidFill>
                  <a:srgbClr val="464646"/>
                </a:solidFill>
                <a:latin typeface="Lucida Sans Unicode"/>
              </a:rPr>
              <a:t>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refleja como el sujeto percibe o cree que debe mantener o modificar sus conductas en forma conciente y voluntaria para adecuarse al ambiente que eligió al contestar el Test.</a:t>
            </a:r>
            <a:br>
              <a:rPr sz="2400"/>
            </a:br>
            <a:br>
              <a:rPr sz="2400"/>
            </a:b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82"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III El Gráfico del Perfil Integral (PI)</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combina las respuestas emocionales y no voluntarias con otras racionales y voluntarias, reflejando cómo el sujeto obra en forma total, a lo largo de su día, mezclando diferentes tipos de acciones/reacciones. </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proporciona la descripción de la auto percepción.</a:t>
            </a:r>
            <a:endParaRPr b="0" lang="en-US" sz="2800" spc="-1" strike="noStrike">
              <a:solidFill>
                <a:srgbClr val="000000"/>
              </a:solidFill>
              <a:latin typeface="Lucida Sans Unicode"/>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Combina dos forma diferentes de percibirse  a si mismo, ya que combina las respuestas de las opciones más y de las opciones menos, proporcionando un cuadro más amplio de la auto percepción.</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84" name="PlaceHolder 2"/>
          <p:cNvSpPr>
            <a:spLocks noGrp="1"/>
          </p:cNvSpPr>
          <p:nvPr>
            <p:ph type="subTitle"/>
          </p:nvPr>
        </p:nvSpPr>
        <p:spPr>
          <a:xfrm>
            <a:off x="394920" y="476280"/>
            <a:ext cx="8280360" cy="5905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Puede haber diferencias entre los Gráficos?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4646"/>
                </a:solidFill>
                <a:latin typeface="Lucida Sans Unicode"/>
              </a:rPr>
              <a:t>Sí. Los Gráficos están divididos en siete segmentos. Se considera que hay diferencias entre el Perfil Emocional y el Perfil Adaptativo cuando alguna de las barras de uno difiere en más de un segmento de la barra correspondiente del otro. Esto adquiere mayor importancia sólo cuando una de las dos supera la línea media (segmento 4) y la otra no. La diferencia significa que el sujeto está realizando un esfuerzo para adaptarse concientemente al ambiente. </a:t>
            </a: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64646"/>
                </a:solidFill>
                <a:latin typeface="Lucida Sans Unicode"/>
              </a:rPr>
              <a:t>El PI</a:t>
            </a:r>
            <a:r>
              <a:rPr b="0" lang="es-CL" sz="2400" spc="-1" strike="noStrike">
                <a:solidFill>
                  <a:srgbClr val="464646"/>
                </a:solidFill>
                <a:latin typeface="Lucida Sans Unicode"/>
              </a:rPr>
              <a:t> representa la conjunción de los dos anteriores. </a:t>
            </a:r>
            <a:br>
              <a:rPr sz="2400"/>
            </a:br>
            <a:r>
              <a:rPr b="0" lang="es-CL" sz="2400" spc="-1" strike="noStrike">
                <a:solidFill>
                  <a:srgbClr val="464646"/>
                </a:solidFill>
                <a:latin typeface="Lucida Sans Unicode"/>
              </a:rPr>
              <a:t>Si los tres perfiles son similares se interpreta que el sujeto actúa en el ambiente sin tener que modificar sus conductas espontáneas.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84960"/>
            <a:ext cx="77724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464646"/>
              </a:solidFill>
              <a:latin typeface="Lucida Sans Unicode"/>
            </a:endParaRPr>
          </a:p>
        </p:txBody>
      </p:sp>
      <p:sp>
        <p:nvSpPr>
          <p:cNvPr id="386" name="PlaceHolder 2"/>
          <p:cNvSpPr>
            <a:spLocks noGrp="1"/>
          </p:cNvSpPr>
          <p:nvPr>
            <p:ph type="subTitle"/>
          </p:nvPr>
        </p:nvSpPr>
        <p:spPr>
          <a:xfrm>
            <a:off x="394920" y="692280"/>
            <a:ext cx="8280360" cy="5689440"/>
          </a:xfrm>
          <a:prstGeom prst="rect">
            <a:avLst/>
          </a:prstGeom>
          <a:noFill/>
          <a:ln w="0">
            <a:noFill/>
          </a:ln>
        </p:spPr>
        <p:txBody>
          <a:bodyPr lIns="45720" rIns="4572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64646"/>
                </a:solidFill>
                <a:latin typeface="Lucida Sans Unicode"/>
              </a:rPr>
              <a:t>¿Qué significan las barras D, I, S, C ? </a:t>
            </a: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4646"/>
                </a:solidFill>
                <a:latin typeface="Lucida Sans Unicode"/>
              </a:rPr>
              <a:t>El </a:t>
            </a:r>
            <a:r>
              <a:rPr b="1" i="1" lang="es-CL" sz="2800" spc="-1" strike="noStrike">
                <a:solidFill>
                  <a:srgbClr val="464646"/>
                </a:solidFill>
                <a:latin typeface="Lucida Sans Unicode"/>
              </a:rPr>
              <a:t>TTCD o DISC  </a:t>
            </a:r>
            <a:r>
              <a:rPr b="0" lang="es-CL" sz="2800" spc="-1" strike="noStrike">
                <a:solidFill>
                  <a:srgbClr val="464646"/>
                </a:solidFill>
                <a:latin typeface="Lucida Sans Unicode"/>
              </a:rPr>
              <a:t>se basa sobre una clasificación de conductas las que han sido inicialmente divididas en cuatro grandes grupos -D, I, S, C- según la teoría desarrollada por William M. Marston en Estados Unidos (1930) sobre la base de una prolongada observación e investigación. Las barras muestran gráficamente la mayor o menor intensidad de las conductas de cada grupo, cuyas connotaciones generales son las siguiente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7-12-28T22:58:28Z</dcterms:modified>
  <cp:revision>2</cp:revision>
  <dc:subject/>
  <dc:title>SISTEMA DE PERFIL PERSONAL TTCD – Test  de Tendencias Conductuales DISC</dc:title>
</cp:coreProperties>
</file>